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8F2-9D8F-45F7-8779-DD00F9A7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213-2AD2-4154-B833-9C5BB73A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A9C-CA49-4A1F-A57F-8C20CAB6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725-B133-4D15-BCE7-BEAE2E3A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B452-D62F-4312-9EFF-2B6BBDCB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65A1-DF95-4234-AB58-A3B9FBB7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A9F5-E7EF-44A8-BBB7-01AA1D2B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29A2-210D-475D-975E-C34D15A5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28C5-7AD0-40FF-8330-2B835855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35C7-CECF-48B8-A48E-F680C6EE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51B0-BB83-483C-ABBF-1FFD5F03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FCB-15A3-4C20-9C14-A250690A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50BA-DBB6-4693-8386-6C3EE881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4C07-9F7E-45B9-B948-D6E3A8E7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D23F-E4F4-479A-92A6-2B0E516F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FCF7-FD3B-4AA8-85F6-DB74AE13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BD5D-B3A1-46E8-9A4E-BAD756B5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D5C-CC37-4AC4-99C4-7AD4220C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BD9-7F37-4829-A717-B4E65147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838-A9AF-49EA-8F1D-784632DC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908-A14F-4DF5-B3F8-9BF0F335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FE5-6D7F-4C95-9F59-BD30BAA9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3F5-322B-4F00-BB22-C601E745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281-767D-4734-8C2A-05229B42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1F76-1F8D-4514-B267-4000847178DE}" type="slidenum">
              <a:rPr b="0" lang="lt-L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564A-8D00-4C77-B40F-E8A7C6E1D8D1}" type="slidenum">
              <a:rPr b="0" lang="lt-L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SMENYBĖS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78040" y="3781440"/>
            <a:ext cx="604512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INDIVIDUALIOJI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ADLER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nkavertiškumo jausmas, komplek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Organų menkavertišku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erdėta glo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Atstūmi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našumo sie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yvenimo stil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dominavimo gyvenimo stili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gavimo gyven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veng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socialiai naudingas gyven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INDIVIDUALIOJI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ADLER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is inte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imimo eilišku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irmas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tras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Jauniausia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enintel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BIHEVIORISTINĖS ASMENYBĖS TEORIJO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.Pavlovas: klasikinis sąlygoj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prantinio elgesio teorija (B.F.Skinner): operantinis sąlygojimas, pastiprinimo sch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HUMANISTINĖS PSICHOLOGIJOS ASMENYBĖS TEORIJOS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ROGER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ganizmas ir bazinė tendencija aktualizuo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tyrimų (fenomenų) lau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š ir Aš suvo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eigiamo vertinimo poreikis ir sąlyginis vert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esąlyginis teigiamas vert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HUMANISTINĖS PSICHOLOGIJOS ASMENYBĖS TEORIJOS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MASLOW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oreikių hierarch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5.Saviaktualizacijos poreik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4.Poreikis pagarb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3.Poreikis priklausyti ir meilės poreik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2.Saugumo poreik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1.Fiziologiniai poreiki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SOCIALINIO MOKYMOSI TEOR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BANDUR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deliavimas: modelio charakteristikos, stebėtojo charakteristikos, su elgesiu susiję paskatini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ys, įsiminimas, atgaminimas, paskat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vęs pastipr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vo efektyvumo vert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Z.Froida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60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Z.Froidas: asmenybės struktūra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6000" y="1988640"/>
            <a:ext cx="5832360" cy="3745440"/>
            <a:chOff x="1476000" y="1988640"/>
            <a:chExt cx="5832360" cy="3745440"/>
          </a:xfrm>
        </p:grpSpPr>
        <p:sp>
          <p:nvSpPr>
            <p:cNvPr id="102" name=""/>
            <p:cNvSpPr/>
            <p:nvPr/>
          </p:nvSpPr>
          <p:spPr>
            <a:xfrm rot="10800000">
              <a:off x="1476000" y="1988280"/>
              <a:ext cx="5832360" cy="3745080"/>
            </a:xfrm>
            <a:custGeom>
              <a:avLst/>
              <a:gdLst>
                <a:gd name="textAreaLeft" fmla="*/ 1282320 w 5832360"/>
                <a:gd name="textAreaRight" fmla="*/ 4550040 w 5832360"/>
                <a:gd name="textAreaTop" fmla="*/ 823320 h 3745080"/>
                <a:gd name="textAreaBottom" fmla="*/ 2921760 h 374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79760" y="2702160"/>
              <a:ext cx="36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4400" y="3593880"/>
              <a:ext cx="425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52440" y="2167200"/>
              <a:ext cx="126072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52440" y="2880360"/>
              <a:ext cx="189144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Prieš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7080" y="3772080"/>
              <a:ext cx="2206800" cy="7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Pa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209760" y="1989000"/>
              <a:ext cx="1103400" cy="3745080"/>
            </a:xfrm>
            <a:prstGeom prst="line">
              <a:avLst/>
            </a:prstGeom>
            <a:ln w="284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83160" y="4128840"/>
              <a:ext cx="2994840" cy="0"/>
            </a:xfrm>
            <a:prstGeom prst="line">
              <a:avLst/>
            </a:prstGeom>
            <a:ln w="284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28880" y="2880360"/>
              <a:ext cx="1418400" cy="7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EG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71200" y="4489200"/>
              <a:ext cx="1733760" cy="89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03480" y="3950640"/>
              <a:ext cx="1418400" cy="12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SUP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EG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FROIDO PSIHOANALITINĖ ASMENYBĖS TEORIJ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struktūra: id, Ego,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Id: malonumo principas, refleksyvūs veiksmai, pirminiai proces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Ego (Aš): realybės principas, antriniai psichiniai proces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uperego: introjekcijos mechaniz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FROIDO PSIHOANALITINĖ ASMENYBĖS TEORIJ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go gynybiniai mechanizm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šstūm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rojek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Reakcijos formav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Fiks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Regres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dentifik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akeitimai (pvz., sublimaci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smenybės raidos stadijos pagal </a:t>
            </a:r>
            <a:br>
              <a:rPr sz="3200"/>
            </a:b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</a:t>
            </a: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Froidą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ystymosi stadi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Oralinė (nuo gimimo iki 18 mėn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alinė (18 mėn. – 3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Falinė (3-6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Edipo, Elektros kompleks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Latentinė (6-12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Genitalinė (ėmus lytiškai bręs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041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NALITINĖ (gelmių)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G. JUNG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struktūra: Ego, individuali pasąmonė, kolektyvinė pasąmo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lektyvinė pasąmonė: archetip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ima ir Ani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Šešėl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avas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NALITINĖ (gelmių)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G. JUNG 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kstraversija ir intraver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ąstymas, jausmai, pojūčiai ir intui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vystym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aikystė ir jaunyst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dutinis amžius ir senatv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2:59:09Z</dcterms:created>
  <dc:creator>TADAS</dc:creator>
  <dc:description/>
  <dc:language>en-US</dc:language>
  <cp:lastModifiedBy> </cp:lastModifiedBy>
  <dcterms:modified xsi:type="dcterms:W3CDTF">2007-11-06T14:30:22Z</dcterms:modified>
  <cp:revision>17</cp:revision>
  <dc:subject/>
  <dc:title>INDIVIDAS IR ASMENYBĖ</dc:title>
</cp:coreProperties>
</file>